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9167-E939-4F38-B94E-56CB965E7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EC461-EB3D-44AA-8A7A-7FF9E682B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1059-D4AA-4E15-9549-F33B3E2C1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D26F8-7B0C-4E3E-BE94-E8A9EE7F7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57C7A-B068-4104-B1F6-0D3228B43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41ED0-13E8-4CE5-867D-7BBA429F7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90C23-0EF2-4E23-996A-6534AF34E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CBCF0-8447-4D9C-84FC-5F40099E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0885-2082-4FB5-8721-7A4F496ED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D9755-90C6-4363-81CB-B0BC64E4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4778-84E0-4280-B82A-F4C91A669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330F-368D-47E7-BE32-201C1C5EB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B895A-CF16-4E46-A250-95976CB4D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17CCC-F9E3-4718-808A-D17E4D6CB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5FD90-3897-4B54-A5B7-F2D0102EE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AC7D5-AC7D-4480-8B0A-E0E5BED2E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0600D-16B1-46ED-A70E-2FD7E5C1E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423A2-B586-4E9A-8045-D5C3862B7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CC51C-3093-4879-8507-F9D8DE4CA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22F09-1989-41A0-97DB-A48EE46AF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6AFD-A5BE-40CC-8539-B2EFC09CB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38C2-2F42-4C27-A1DD-94B0C585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7289-1554-41BB-B080-06E5975E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5C2E-BE0E-4460-A5C7-FA18AB5A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CB41-6DB0-4150-AECA-9B9605155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4D34-4EEC-40B7-B865-71F071C73843}"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3967-F7A1-49F0-A438-6DDB90FC03C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German steamer</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was Magwich trying to get to the German Steamer ?</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id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the end of chapter 52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lynn</cp:lastModifiedBy>
  <dcterms:modified xsi:type="dcterms:W3CDTF">2009-03-15T19:23:56Z</dcterms:modified>
  <cp:revision>100</cp:revision>
  <dc:subject/>
  <dc:title>Survivor</dc:title>
</cp:coreProperties>
</file>